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C36-2712-4214-BDB4-2E934391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47A-C8EC-4CB8-88C9-537FA096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094-4D56-443E-A35B-661DA9D6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C5C-1163-4CC5-B6D2-4AD0E9A1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56B-1E61-4FD0-BD68-A8ED0CED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D49-23F5-4C5A-A030-F2261DBF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23C-CEDB-4C46-9DF9-ABE09132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F4B-9168-49A7-8878-0C936272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D0F-AD7D-4AAF-9161-99D7511D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E07-169D-47ED-AFCB-1DB9A007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545-42E0-43E6-98D3-EC612FF9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0F8-D320-4F53-BEC8-B1FD4E96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3317-F6F1-4A2E-9436-BA99B847F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baInd”y”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: odiomarkstrat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baInd5.dz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77080" y="2924280"/>
            <a:ext cx="2087640" cy="285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eben deszipearl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0000</cp:lastModifiedBy>
  <dcterms:modified xsi:type="dcterms:W3CDTF">2006-09-14T22:04:10Z</dcterms:modified>
  <cp:revision>14</cp:revision>
  <dc:subject/>
  <dc:title>Diapositiva 1</dc:title>
</cp:coreProperties>
</file>